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CAA-F522-455B-B2F8-9D627E56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A62-C426-4D75-A136-2066626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1C5-C150-4F5B-98A7-46748DB6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5E6-8014-4C60-803B-ED4A1C68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5794-999C-4848-BC34-2BDAB56E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42F4-DDE1-4BF8-AF7A-6F6C76D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D59E-4770-4742-8542-CAE09B3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6402-0648-4378-9227-5930B1D2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A7D5-36D1-4B52-AE9A-232479C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BFC8-22B6-43F8-B34F-03E0B5A7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AC4D-C788-4BBF-B27A-75E1E38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E87-841C-487A-91FE-5500741F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58EC-3CB4-4E1D-B3BB-FC0439C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FF9A-7E1B-42D7-AA9A-9603BD97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EE0-73B5-4AF0-8F55-CE24575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21E-E75E-4CF2-A1C0-FE1AD1DD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1ECF-438E-4A33-9F08-E7E3BF9D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CAB1-42D6-4DBC-9892-8EB7BB3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4093-1459-4ABE-A1CB-85B03AAC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C97B-4B42-4A82-8D12-F07C907C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7E17-67B7-4C9A-B504-AB342112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641F-A519-48ED-8F08-5A7F903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3AA-6E21-4A7A-9A04-818419B8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8C99-C38C-4D06-8B7C-EA3904C3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6A4F-07BE-49A8-9C67-E348853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38EE-DE3C-4749-9BAD-788BD21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BC8C-A400-4D3E-8AAF-017F9248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F633-07BA-41AC-A94F-894644D6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35E9-1295-4526-9194-7F4E6E41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9A87-9FFA-4970-99F2-5CFD38C5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8C38-9E5A-4D3A-BD61-503F9B8C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C7A0-77CE-410F-B9D5-380D594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D802-7464-4AD9-9086-2DE0F09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594-E323-4C6B-93ED-4C6C785F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1851-DC40-484A-838B-7306D01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4768-C70B-45A2-8F8D-C8A99EC1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0A02-3B4C-4C7A-A7DD-68F573B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E2BF-C26B-4416-8524-4B95A45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00EC-8046-479E-BC2F-84D7139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3922-4DAF-4337-9D19-51F4EB0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0517-E79A-44C1-98DE-2E13A1A6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9B39-03D7-4A3C-B99F-93141305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3177-713C-4875-8A10-A51CC91F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EEE0-DE5F-487B-AE31-B9905F21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9AD-87D4-47F3-95EA-63B6DBF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0333-811E-45D1-B67E-EBECD543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B9C2-B89C-4D19-98F2-6EFA35C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8E733-84D4-4F54-864D-8C77170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04836-3D55-4CA1-8276-85D4221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C7E6-3776-4FB0-8B4D-D62C42E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82EEA-4E8B-41E7-9C4B-4FBCF655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9A68-FAC9-427E-A52A-45A094CD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DF5F-7BE0-4A6B-AF94-45E1B19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0AFB0-DF64-434F-A3E7-B3320486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6147-8B67-42ED-AD36-F621BFFE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199-209C-4690-94EB-3515497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4051-EE35-4913-86F7-2277577D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30B4B-2455-40FE-87F7-767D61BC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AB68-4CA8-4C52-BE51-42913BA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1DAD-14BB-4C28-904A-E5AD3AE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C06F-2FB6-4450-80E4-7574A3B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8C72-F14D-4F38-B8E4-F71BEF45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C7136-7248-4ABC-B328-89F571AA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C82C-7907-4C91-8AF9-35FB640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806EE-E6CE-4AEF-8A55-C2DB93B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A2C3-6C62-44EA-998F-BCB1D79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C25-373D-46C0-90EC-7A45094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D042-AB69-4233-BBA5-279534F6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DEF8-9B39-4565-90A3-770D3587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F5CD5-C49F-40AB-91F6-3059D7CF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7F82-BD83-4351-A088-23C21C7E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273C-D997-42F8-B21F-59F26B95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D47A2-1EB8-42AB-959C-B325EFC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6A35C-19C8-4E96-A957-E30CE9B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1607-E389-4CE8-88B0-958F4A37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2D5C1-A4F1-4D41-A647-F7FE90E5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88B1-DDB3-43C1-A9E4-27F85CF5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379-91B7-4BCC-AFD8-6A28775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DCDC-D5D7-41C4-89F2-A6F308B8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6099-5822-4403-A6E6-91C96D11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83B2A-A0A1-439A-822A-8E633A2F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7BE2-2666-42EE-A949-B0179DE6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D29C6-104A-487F-B401-76B5AC50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FA360-0C39-4D8D-8C8F-2984D8FE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633EA-FD96-4813-85C3-06823AAB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7ABF8-0370-4A0C-AB0C-766F7BD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D1AF5-6381-46E6-AEF6-E74033E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4D11-DCC4-4CBF-954A-42AE47F1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40E-8F62-4735-9D91-AAA850D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A1D4D-FC32-42E3-A610-2978692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94B9-DF59-4C2A-9765-8945718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7DEE-7482-4410-BB94-4160EBF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D7D5-AF92-47A5-826C-8697C34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268C-ECF1-480C-B006-1AC88696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0FA97-D6C9-4CC4-8B1A-BAD420BB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57D43-9CB3-4144-9909-8E826AFD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8767-9A17-4123-8418-95FA32486B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F91-37DE-4201-B482-B0F5103CBF4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9458-B288-4BE2-B3FC-83A40836042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EA17-CD42-48D2-9EEC-A612E30FD98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67C-855F-49EA-B53E-397A6FD2E47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3300-C21A-49C2-9DA8-C1B72AD6F3C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D8E-349E-4D09-BB99-742A4679EA5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44B-A2F6-464B-B275-F50C535F7D0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035920" cy="2700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85480" y="2420640"/>
            <a:ext cx="8643960" cy="35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Назначение лаборатори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Lucida Sans Unicode"/>
              </a:rPr>
              <a:t>Исследование актуальных проблем в развитии регионального воспитательного пространства и региональной системы образования и поиск путей их реш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ринцип диалогичности подчеркивает, что в рамках воспитательной системы организуется диалог культур, как взаимодействие носителей этих культур. При этом очень важно что, это должен быть диалог равных партнеров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азируется на принципах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бытийности, самодеятельности и обогащающего взаимодейств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же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бытий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говорит о том, что жизнь воспитательной системы должна быть организована по принципу чередования повседневности и ярких эмоциональных событий, «закрепляющих» те отношения которые «проявляются» в ходе повседневной деятельно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ответствии с принципом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амодеятель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жизнедеятельность воспитательной системы организуется исходя из потребностей воспитанников, руками воспитанников и для воспитанни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обогащающего взаимодейств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ывает, как происходит развитие этнокультурной составляющей личности (и целого этноса) за счет взаимопроникновения и влияния культур других этносов (при взаимодействии с ними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нергетический подход опирается на принципы: системности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бъектности и ак-сиологич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ценностной ориентации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истем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требует рассмотрения как этнокультуры, так и процесса полиэтнокультурного воспитания как системных явлен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этом, исходя из принципа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бъект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воспитанник сам выбирает траекторию освоения культуры (личностного культурного рост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ксиологич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говорит о том, что этот личностный рост обусловлен культурными ценностями, которые декларируются семьей, этносом и государств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Lucida Sans Unicode"/>
              </a:rPr>
              <a:t>Исходя из вышеизложенного, можно сделать вывод, что для формирования российской идентичности, как основы российской нации, необходимо в концептуальные основы воспитательной системы школы закладывать направленность на освоении полиэтнической культур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96720" y="-66600"/>
            <a:ext cx="8350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1268280"/>
          <a:ext cx="9144000" cy="5651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ШКОЛА  К СРЕДЕ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УЛЬТУРА СРЕ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зруш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звивается или восстанавлив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ысокая, сохранившая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2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золя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ледует за сред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ктивно влияет на сре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 поводу каких аспектов может идти взаимодействие со средой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кие результаты мы хотим получить от этого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В какой форме может бытьл организовано это 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кова  может быть технология (алгоритм) этого 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э</a:t>
            </a:r>
            <a:r>
              <a:rPr b="1" i="1" lang="ru-RU" sz="3600" spc="-1" strike="noStrike">
                <a:solidFill>
                  <a:srgbClr val="000000"/>
                </a:solidFill>
                <a:latin typeface="Lucida Sans Unicode"/>
              </a:rPr>
              <a:t>то хронотопная Среда совместного бытия, преобразованная всеми агентами воспитания в фактор интегративного влияния на процесс развития и самореализации личност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820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а (аспект) работы вашей организаци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ичностные результаты воспитанников и их оцен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а исследований на 2015-16 уч.год:  «Организация взаимодействия школы и социума при формировании российской гражданской идентичности, на основе полиэтнокультурного подход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талкиваясь от определения известного философа и культуролога B.C. Библера, «культура есть форма одновременного бытия и общения людей различных - прошлых, настоящих и будущих культур, форма диалога и взаимопорождения этих культур.» и, учитывая, что культура включает всё, что создано умом и руками человека, то чтобы очертить формат вопроса и подчеркнуть, что мы рассматриваем взаимодействие (полилог) культур имеющих именно этническую основу (отстраняясь от научных, религиозных, идеологических и прочих позиций) мы используем, термин полиэтническая культу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231840" y="262080"/>
            <a:ext cx="8454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знание основ культур своего и других этносов, населяющих страну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умение бесконфликтно взаимодействовать в полиэтнической среде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соблюдение социальных норм и правил полиэтнического обществ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505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ответственно полиэтнокультурное воспитание будет заключаться в освоении полиэтнической культуры и осуществляется в основном через опосредованный и непосредственный диалог с иными этнокультурам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осредованный диалог происходит при восприятии различных текстов и артефактов иных культур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посредственный, при очном взаимодействии с представителями (носителями) других культу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8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и в полиэтнокультурном воспитании (в формировании полиэтнической культуры) выступают взаимосвязан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средовой,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еятельностны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 синергетический подходы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8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нтральными  выступают принципы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риродосообразности, культуросообразности и диалогич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природосообразности требует учитывать не только природу воспитанника (соматическую наследственность, психо-физиологические, возрастные и гендерные осо-бенности и пр.), но и влияние экологической среды, окружающих природных условий (климатических, территориально-географических и пр.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ответствии с принципом культуросообразности воспитание ориентируется на культурные ценности, присущие окружающей социальной среде в данный исторический период.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успешного полиэтнокультурного воспитания ребенок должен быть включен (погружен) в полиэтнокультурную среду (т.е. субкультура воспитательной системы, в которой находится ребенок, должна быть полиэтнокультурной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03:30:21Z</dcterms:created>
  <dc:creator>gav</dc:creator>
  <dc:description/>
  <dc:language>en-US</dc:language>
  <cp:lastModifiedBy>Гаврилин Александр Васильевич</cp:lastModifiedBy>
  <dcterms:modified xsi:type="dcterms:W3CDTF">2015-10-08T11:32:21Z</dcterms:modified>
  <cp:revision>24</cp:revision>
  <dc:subject/>
  <dc:title>ЛАБОРАТОРИИ  СОВРЕМЕННЫХ ПЕДАГОГИЧЕСКИХ ПРОБЛЕМ</dc:title>
</cp:coreProperties>
</file>