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0E5-1611-4257-BD0E-177FF468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D39-F934-4A9F-B787-2F89033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47D-3A08-4C87-B61E-AF248DF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1F7-CFCA-488E-9E2E-B73E329B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905-F76F-4F1A-81A0-F7E234EF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90A8-9DE5-47E0-8783-901A7BF4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069C-869A-4727-A935-630E7AA6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45D6-FB46-40E2-91F4-95F57C9E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2E5-B83B-4E47-AA1F-CAEA9053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20A0-08BA-40E6-B3E1-902D016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C934-18C0-4B72-9F41-8789D3D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0E1-5D41-4127-94E5-25AB1FF4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19AF-04A1-4683-B91F-4590C073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1903-FE3A-40CE-8573-6D1723A5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6EB0-BFA0-4A74-B0FC-58100BA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308-E0C4-49A1-9AB8-624B86A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069-1347-463A-9BA9-A3D914FE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56AE-0616-46E3-90AA-E5F6DFB2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2C5A-5E19-4218-9BCF-0C04311B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40F3-9A8A-4E76-968E-767ADCC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6C8B-F323-430F-A9CB-5B1443EA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3AD7-94A8-4F25-8242-AABD354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E3-E768-4901-AFB0-B990D98D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AFD0-3F3E-499F-8DEF-B282534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C050-35C8-4240-BD8A-96310EA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57A6-6FDC-40C6-8C11-A0B5FEE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5903-F054-4A7D-B0F7-AB2B465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2F25-00C1-4C00-8DF4-7DB6A76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FDA5-F3C2-45C2-9204-4BC5FA4E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84D1-C485-4A6E-9BAC-178B4311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B28F-FD08-4307-9ADB-DDB56F73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8E4F-7541-44FB-9D38-597D172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2E87-5185-4422-8A87-C4681FEE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8D7-6C03-4980-B04B-AD4928C2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593B-24E2-4C92-8666-DB91168F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2B6B-7215-4B8E-AC68-B132AA2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5138-EE51-4C89-A403-4A4DEAE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DF45-A1B5-4BDD-A813-E4D3B6F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0199-1037-46AA-A572-9CE92D7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F73F-0048-47AA-877A-39EE1E5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A60B-6D5B-4D6C-9277-739C5B61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6830-55AE-4B3F-9EBD-954592FF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4C03-5120-4184-B8A5-634C7BA2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F0C78-5639-4CD0-8077-D03A801B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484-B1BD-47D4-85FD-E01D999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76571-6CB4-414E-9209-15C3CA2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DC03-7E43-4297-A0B5-AFD6F28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DA6F-DF2E-4F5B-B24A-2EAC6AE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BA9D-FC30-487E-AB60-B8F48F86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9D2F-332F-4DDE-992D-C8CA53B1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301E-2B91-41D6-A68B-4034AC9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EAE7-8EE6-4133-87FA-2545A2B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A8AD-0730-47B9-A594-C7600907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BF097-8E7E-4739-8DC8-53DD3C96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AF15-655A-49D1-AD50-EC019CCF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3A5-02C2-4A81-BF2E-5D0BCEB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8277-9BCE-4580-879F-E2E39E97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8BDFC-1561-4D3D-A829-D428EFEB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1D10-921D-41AF-B86D-CB77823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3A86-C21A-4F49-A04A-C97B87D4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ED47F-A237-4FED-9B36-C64424B2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8130C-9771-406C-AFD7-1140888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59D9-2FC8-4446-AF0E-9DC5D20D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5C86-A924-4834-B25F-2DE34DC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FA0D-89B9-4841-B3B8-5076862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D1E7-AFFE-4B8C-B727-CE27923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323-6A2C-4F46-A6DA-297B430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6CF9-30F1-4AB1-B41A-D473C5B0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9E68-9A49-485E-9B91-207A071F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8981D-F5A4-48B6-8C93-8CD3709E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7C38E-9B55-4CF7-9A2B-FA30A3D0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B46BB-222C-475B-A3DF-FC4FCC8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D0FD-ACF0-4802-B089-94E87851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EFA1-94DD-400D-85F8-7E8FA5DB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ED38-4CD0-4649-AEBC-5C93F83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FC26-1116-42AE-BC41-92B71770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17ED-D434-408F-B076-8B66AC5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EE6-D143-4579-A425-B9C6E5F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A0FE-899F-4C1A-BEE1-F884B10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A229-84C9-4E41-9530-123F835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673F-A0F1-4B7D-AA1D-DA46A6AB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18A4-4963-42EA-A015-F9ECB1F8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6DC8-89DA-41AA-9976-E99A44A1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592BF-0825-40FB-A0C2-A1FBE751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A3E0-8FA4-4D87-A8E2-A52C424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459C-8D7F-4B77-B57B-12C25B1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A477-6019-4519-BEE5-DC2F7E2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712C3-B990-48F4-959C-67B89C95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3E9-87FF-4728-BB53-1080D79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88E6-1ACE-4259-972F-529A13E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F8CB-746C-4580-A299-B1109657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45C2-AFBD-40E2-A794-BC9422A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4DDDC-E2B7-43E0-9786-195EB1D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B206-7684-40CF-BCF4-47FCCCE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E1500-72DB-462E-8526-4DED4D6B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B3BD-EBFD-4F15-A07B-EF1C7DFF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C3B5-DB38-4EFA-94BA-2001AC3B6F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A3C-E194-4E2F-AD1D-D1429B943AE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9D6-D381-4BB2-88B0-15411D2F420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F5FA-B790-455A-84E1-EA4DA001E9D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1F99-0C72-42DE-96FC-EA673B82F75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D19-ADA2-469D-9226-FA4F6BBE2D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DEBE-BAD7-489B-AEFC-198B6AB1995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805F-B8F4-4DB0-9585-D4FF2F6468A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035920" cy="2700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85480" y="2420640"/>
            <a:ext cx="86439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Назначение лаборатори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Lucida Sans Unicode"/>
              </a:rPr>
              <a:t>Исследование актуальных проблем в развитии регионального воспитательного пространства и региональной системы образования и поиск путей их реш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ринцип диалогичности подчеркивает, что в рамках воспитательной системы организуется диалог культур, как взаимодействие носителей этих культур. При этом очень важно что, это должен быть диалог равных партнеров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азируется на принципах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, самодеятельности и обогащающего взаимодейств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же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жизнь воспитательной системы должна быть организована по принципу чередования повседневности и ярких эмоциональных событий, «закрепляющих» те отношения которые «проявляются» в ходе повседневной деятельн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амодеятель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жизнедеятельность воспитательной системы организуется исходя из потребностей воспитанников, руками воспитанников и для воспитанн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обогащающего взаимодейств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ывает, как происходит развитие этнокультурной составляющей личности (и целого этноса) за счет взаимопроникновения и влияния культур других этносов (при взаимодействии с ним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нергетический подход опирается на принципы: системности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 и ак-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ценностной ориентаци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истем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требует рассмотрения как этнокультуры, так и процесса полиэтнокультурного воспитания как системных явлен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этом, исходя из принципа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оспитанник сам выбирает траекторию освоения культуры (личностного культурного рост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к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этот личностный рост обусловлен культурными ценностями, которые декларируются семьей, этносом и государств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Lucida Sans Unicode"/>
              </a:rPr>
              <a:t>Исходя из вышеизложенного, можно сделать вывод, что для формирования российской идентичности, как основы российской нации, необходимо в концептуальные основы воспитательной системы школы закладывать направленность на освоении полиэтнической культур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96720" y="-66600"/>
            <a:ext cx="8350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1268280"/>
          <a:ext cx="9144000" cy="5651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ШКОЛА  К СРЕДЕ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УЛЬТУРА СРЕ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руш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вивается или восстанавлив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ысокая, сохранившая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золя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ледует за сред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ктивно влияет на сре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 поводу каких аспектов может идти взаимодействие со средой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ие результаты мы хотим получить от этого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В какой форме может бытьл организовано эт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ова  может быть технология (алгоритм) этог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э</a:t>
            </a: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то хронотопная Среда совместного бытия, преобразованная всеми агентами воспитания в фактор интегративного влияния на процесс развития и самореализации личност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820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(аспект) работы вашей организаци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ичностные результаты воспитанников и их оцен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исследований на 2015-16 уч.год:  «Организация взаимодействия школы и социума при формировании российской гражданской идентичности, на основе полиэтнокультурного подход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талкиваясь от определения известного философа и культуролога B.C. Библера, «культура есть форма одновременного бытия и общения людей различных - прошлых, настоящих и будущих культур, форма диалога и взаимопорождения этих культур.» и, учитывая, что культура включает всё, что создано умом и руками человека, то чтобы очертить формат вопроса и подчеркнуть, что мы рассматриваем взаимодействие (полилог) культур имеющих именно этническую основу (отстраняясь от научных, религиозных, идеологических и прочих позиций) мы используем, термин полиэтническая культу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31840" y="262080"/>
            <a:ext cx="8454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знание основ культур своего и других этносов, населяющих страну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умение бесконфликтно взаимодействовать в полиэтнической среде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облюдение социальных норм и правил полиэтнического обществ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50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тветственно полиэтнокультурное воспитание будет заключаться в освоении полиэтнической культуры и осуществляется в основном через опосредованный и непосредственный диалог с иными этнокультура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осредованный диалог происходит при восприятии различных текстов и артефактов иных культур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осредственный, при очном взаимодействии с представителями (носителями) других культу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и в полиэтнокультурном воспитании (в формировании полиэтнической культуры) выступают взаимосвязан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редовой,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еятельностны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 синергетический подходы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нтральными  выступают принципы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риродосообразности, культуросообразности и диалогич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природосообразности требует учитывать не только природу воспитанника (соматическую наследственность, психо-физиологические, возрастные и гендерные осо-бенности и пр.), но и влияние экологической среды, окружающих природных условий (климатических, территориально-географических и пр.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культуросообразности воспитание ориентируется на культурные ценности, присущие окружающей социальной среде в данный исторический период.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успешного полиэтнокультурного воспитания ребенок должен быть включен (погружен) в полиэтнокультурную среду (т.е. субкультура воспитательной системы, в которой находится ребенок, должна быть полиэтнокультурной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03:30:21Z</dcterms:created>
  <dc:creator>gav</dc:creator>
  <dc:description/>
  <dc:language>en-US</dc:language>
  <cp:lastModifiedBy>Гаврилин Александр Васильевич</cp:lastModifiedBy>
  <dcterms:modified xsi:type="dcterms:W3CDTF">2015-10-08T11:32:21Z</dcterms:modified>
  <cp:revision>24</cp:revision>
  <dc:subject/>
  <dc:title>ЛАБОРАТОРИИ  СОВРЕМЕННЫХ ПЕДАГОГИЧЕСКИХ ПРОБЛЕМ</dc:title>
</cp:coreProperties>
</file>