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028-AB81-4C70-9586-652011AB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E67-ACC1-4680-8F4D-41A74F1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7C2-108D-498D-AB7E-66F9E5C2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82E-3A82-4B83-93F5-80C9EF93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BAD9-7432-4DE8-AA6A-9148B617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5DC7-9CE5-4FFA-A110-9FC340C3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9995-EB67-487C-B16D-9436051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FE4-4C63-4BDD-BB4A-D03D190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EF51-A695-402D-97AD-857ACEC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1E2-EBDD-4B5B-BEB1-1CCEECED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E953-7CD8-4BD1-A2F6-CDB6CFD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09A-2BA4-4CE8-9C72-CC6C42F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CA9-DC6B-48F2-8724-C23069E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D59D-0B74-48C5-A55D-24C72D5D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D259-0F2C-4D73-B001-2F62B2F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588C-084C-46BA-8604-A14F692A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D55-6965-4243-A55B-4730E1A0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5876-7166-411E-A30C-C3B9CF92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1329-2373-4880-AE40-CFC4791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E1ED-9AF5-4970-9D9E-16F06434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6FE7-EB5D-48B8-9198-E69B05E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6413-0B07-40ED-9E55-7E3707D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78D-09F4-4ABF-8252-9BC1992A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4578-BF11-4818-BE02-9ACBFF0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DAFC-EECC-4B1B-A710-F0E4786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1146-7BF5-4536-ACFA-AAC05C5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BA01-CAE5-489E-AF65-96A8552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0A61-ACAB-49F1-8198-6E50E28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3926-E6D6-4A5D-B42B-F5963F66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7330-66B9-4BF5-9843-A96FC806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FB6F-251E-4110-98C6-F7B6B2F5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E8AFA-F7D2-45A9-AB63-0D063EFC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DD395-F3A5-41B4-BF5C-F8524493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D16-7199-429A-931C-0A0C7037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2BEF-754F-4C6C-81F5-3A5825A2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B74B-D7C4-4D99-BEA8-BFB84AE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A03C-9DB2-471D-AEBE-79BA167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2DE6-F9B2-4615-8CEA-85202DD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EEB4-C0B9-4E49-B80A-DE4B2DA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56B1-BE13-440C-A407-AB7A41B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CDF0-8337-4688-AD44-60B3E303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F722-33A2-411C-99DA-EA68BB08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30E2-63E0-44FE-B5E8-BA2BC681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DBC0-63E6-44A6-8722-B220879E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9E5-2BA6-46AD-A48C-3FB5891F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D8BD-E503-4DBE-9210-53C77A3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3478-3537-4D56-95F4-99C2B5AC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6880-6B29-422E-8006-3BDA935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0263B-AE1B-4321-A134-15FB572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EE3A-B84E-4D5B-B581-F529C634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AE89-0B5C-4D67-9A37-DCE2042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5095-3EEE-4A66-B331-4068ADA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E69C-CBFA-4681-B932-85BAA39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936F-6E3D-48BD-97D7-230133D6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D088-AA41-4AAE-8D60-DD600FF8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175-B7A6-42AF-A23C-0E6A0EB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C91F-4B65-4C04-9B18-F0949A5C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5C75-BFCA-49AC-A602-0DD572F5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A68F-544D-42E4-800E-C4A9BE38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6E97-9F9D-4BE6-A835-AA3EE9B6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F4AA-13F9-4D8B-8691-5A8466F2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FCFC7-7326-4C90-AD67-5C4007A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7E167-4D50-41E9-B33B-8E63232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CD6C-3032-4D17-AAE4-433B393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2F83-E345-467E-B257-F20B6CC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E041-CFB6-449A-98C9-12D09E9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8A-680A-4A6D-BD3E-8290262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F636-A672-4F2C-9E3A-B1601AE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603F-D78F-4BA6-83D7-97B34FAC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B012-AE22-4114-82E1-FACCECC6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4E9C4-8C56-471A-B78F-B376678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163B-9EB1-4CAD-9470-D1D999D7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24BD-0C7F-49BD-A4F0-B641AD84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91B2-FC22-4C48-AE52-9F16A470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FAF0F-364E-43C8-802F-3F88A0F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9C93-09AA-4405-91B2-7E1711C6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01AA-88F5-405D-A8B8-014875B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9C4-913E-4059-B8A4-8D75856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1CDA4-A6C4-40B5-BB17-343C909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5B3A-5A9A-4628-A195-134A575F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5C298-639F-4F91-AE33-00CC67E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8BCD-DD48-48D5-BEC9-C135769A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C8DFA-36AF-4F3E-A9FF-2092D625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231DE-6C79-4CF9-B565-19F847D6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9F65-17EE-4CAB-9DAB-2FA8F38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00336-9E88-4454-A49A-24BB52FF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93302-AE52-4036-AF0C-AC2BC443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3806-BC10-4D87-9465-34F649D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9EC-0BC6-46B7-9925-AE4D804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A8CC-45D0-4206-B24B-66A915CD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4E7A-1053-4AC4-A573-0A10C49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24E38-A18E-48AA-9661-9A5C849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A41B-8960-4981-8EB3-053D7B44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D1B9-D626-4E1E-BF94-23C09DFE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3CEF4-2131-411D-91EC-2172DB0A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99435-BF47-4EDF-BE3A-B0997B44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EED-94C0-43B6-BF27-C6F3E32EFD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DE5-3DA5-46EB-8F0B-282B4DA7884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CAF-C674-4F9A-886C-16E33708458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17CB-44FC-4DFE-9C2C-92A7B312056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3E19-5F43-407A-9256-DF8CEB85C2A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798E-8F2A-444B-B230-7E1DF036EB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1A72-A068-44CC-BC4F-9BCC9A807D8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47CE-9AD2-4BD8-B0A6-1894FBC5B5F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035920" cy="2700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85480" y="2420640"/>
            <a:ext cx="8643960" cy="35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Назначение лаборатори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Lucida Sans Unicode"/>
              </a:rPr>
              <a:t>Исследование актуальных проблем в развитии регионального воспитательного пространства и региональной системы образования и поиск путей их реш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ринцип диалогичности подчеркивает, что в рамках воспитательной системы организуется диалог культур, как взаимодействие носителей этих культур. При этом очень важно что, это должен быть диалог равных партнеров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азируется на принципах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бытийности, самодеятельности и обогащающего взаимодейств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же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бытий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говорит о том, что жизнь воспитательной системы должна быть организована по принципу чередования повседневности и ярких эмоциональных событий, «закрепляющих» те отношения которые «проявляются» в ходе повседневной деятельно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ответствии с принципом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амодеятель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жизнедеятельность воспитательной системы организуется исходя из потребностей воспитанников, руками воспитанников и для воспитанни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обогащающего взаимодейств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ывает, как происходит развитие этнокультурной составляющей личности (и целого этноса) за счет взаимопроникновения и влияния культур других этносов (при взаимодействии с ними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нергетический подход опирается на принципы: системности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бъектности и ак-сиологич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ценностной ориентации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истем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требует рассмотрения как этнокультуры, так и процесса полиэтнокультурного воспитания как системных явлен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этом, исходя из принципа,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бъект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воспитанник сам выбирает траекторию освоения культуры (личностного культурного рост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ксиологичн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говорит о том, что этот личностный рост обусловлен культурными ценностями, которые декларируются семьей, этносом и государств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Lucida Sans Unicode"/>
              </a:rPr>
              <a:t>Исходя из вышеизложенного, можно сделать вывод, что для формирования российской идентичности, как основы российской нации, необходимо в концептуальные основы воспитательной системы школы закладывать направленность на освоении полиэтнической культур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96720" y="-66600"/>
            <a:ext cx="8350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1268280"/>
          <a:ext cx="9144000" cy="5651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ШКОЛА  К СРЕДЕ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УЛЬТУРА СРЕ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зруш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звивается или восстанавлив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ысокая, сохранившая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2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золя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ледует за сред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ктивно влияет на сре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 поводу каких аспектов может идти взаимодействие со средой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кие результаты мы хотим получить от этого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В какой форме может бытьл организовано это 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акова  может быть технология (алгоритм) этого  взаимодействи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э</a:t>
            </a:r>
            <a:r>
              <a:rPr b="1" i="1" lang="ru-RU" sz="3600" spc="-1" strike="noStrike">
                <a:solidFill>
                  <a:srgbClr val="000000"/>
                </a:solidFill>
                <a:latin typeface="Lucida Sans Unicode"/>
              </a:rPr>
              <a:t>то хронотопная Среда совместного бытия, преобразованная всеми агентами воспитания в фактор интегративного влияния на процесс развития и самореализации личности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820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а (аспект) работы вашей организаци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ичностные результаты воспитанников и их оцен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а исследований на 2015-16 уч.год:  «Организация взаимодействия школы и социума при формировании российской гражданской идентичности, на основе полиэтнокультурного подход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талкиваясь от определения известного философа и культуролога B.C. Библера, «культура есть форма одновременного бытия и общения людей различных - прошлых, настоящих и будущих культур, форма диалога и взаимопорождения этих культур.» и, учитывая, что культура включает всё, что создано умом и руками человека, то чтобы очертить формат вопроса и подчеркнуть, что мы рассматриваем взаимодействие (полилог) культур имеющих именно этническую основу (отстраняясь от научных, религиозных, идеологических и прочих позиций) мы используем, термин полиэтническая культу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231840" y="262080"/>
            <a:ext cx="84549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знание основ культур своего и других этносов, населяющих страну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умение бесконфликтно взаимодействовать в полиэтнической среде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соблюдение социальных норм и правил полиэтнического обществ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396720" y="30240"/>
            <a:ext cx="83505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ответственно полиэтнокультурное воспитание будет заключаться в освоении полиэтнической культуры и осуществляется в основном через опосредованный и непосредственный диалог с иными этнокультурам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осредованный диалог происходит при восприятии различных текстов и артефактов иных культур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посредственный, при очном взаимодействии с представителями (носителями) других культу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8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и в полиэтнокультурном воспитании (в формировании полиэтнической культуры) выступают взаимосвязан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средовой,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еятельностный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 синергетический подходы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86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нтральными  выступают принципы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риродосообразности, культуросообразности и диалогич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 природосообразности требует учитывать не только природу воспитанника (соматическую наследственность, психо-физиологические, возрастные и гендерные осо-бенности и пр.), но и влияние экологической среды, окружающих природных условий (климатических, территориально-географических и пр.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ответствии с принципом культуросообразности воспитание ориентируется на культурные ценности, присущие окружающей социальной среде в данный исторический период.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успешного полиэтнокультурного воспитания ребенок должен быть включен (погружен) в полиэтнокультурную среду (т.е. субкультура воспитательной системы, в которой находится ребенок, должна быть полиэтнокультурной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350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03:30:21Z</dcterms:created>
  <dc:creator>gav</dc:creator>
  <dc:description/>
  <dc:language>en-US</dc:language>
  <cp:lastModifiedBy>Гаврилин Александр Васильевич</cp:lastModifiedBy>
  <dcterms:modified xsi:type="dcterms:W3CDTF">2015-10-08T11:32:21Z</dcterms:modified>
  <cp:revision>24</cp:revision>
  <dc:subject/>
  <dc:title>ЛАБОРАТОРИИ  СОВРЕМЕННЫХ ПЕДАГОГИЧЕСКИХ ПРОБЛЕМ</dc:title>
</cp:coreProperties>
</file>